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9B5-9C3A-4D4D-BBBC-AB2E3810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BC3-145D-4586-B5EA-D897831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C27-D292-410B-B258-8A6D24A3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125-49AF-47BE-B943-D52AB386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DE0-4412-4806-A0EF-78DC596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70C-77A3-4F43-871C-F74FB83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718-603F-42C6-8E9D-ED4E32BC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FB3-8E72-4BAA-A9BE-FAC64DC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774-F5C5-4914-B407-51347B32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660-2FAA-4B43-8CBB-C89A90D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B1A-04A3-48BD-BA91-2EE4261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694-DBFF-4947-80BA-F47BD06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CD7-1A5E-4426-9598-88359518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109440"/>
            <a:ext cx="9864720" cy="712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Biotechnolog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5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-61920"/>
            <a:ext cx="101538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99" r="0" b="12599"/>
          <a:stretch/>
        </p:blipFill>
        <p:spPr>
          <a:xfrm>
            <a:off x="-54000" y="-2187720"/>
            <a:ext cx="919800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0:36:43Z</dcterms:created>
  <dc:creator>DET User</dc:creator>
  <dc:description/>
  <dc:language>en-US</dc:language>
  <cp:lastModifiedBy>DET User</cp:lastModifiedBy>
  <dcterms:modified xsi:type="dcterms:W3CDTF">2009-06-02T05:43:22Z</dcterms:modified>
  <cp:revision>4</cp:revision>
  <dc:subject/>
  <dc:title>Biotechnology</dc:title>
</cp:coreProperties>
</file>